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92F1-E7B5-4442-AFFD-A43AB35F34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B86D-7D29-4372-9F44-BE027700E4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A6E3-F223-4015-B452-1052401104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F521-B453-46D5-9A9B-1D4E605EF7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31C5-F757-4ADD-B7EB-9132352F5E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1366-950D-4661-B627-F2D1BED8B6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BB56-905E-436B-952F-8ADE9F0FD3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65CD-DB56-4A38-BF03-2B68E05B1F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9F4E-ACC2-4A82-B908-BC0DC0DB6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7B69-3D23-48D2-B5A9-5640C5FC55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98F5-FBCD-4E85-A93A-FB287D9E5B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1997-EB35-4DA4-B7C0-5477625B41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74C3-8E5D-4229-9E3E-F465FC0EC0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2E1E-413F-4A50-B466-039AD04C71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D146-30AF-4C1F-B131-6D3458AB9A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4349-F0AD-4353-BC30-94E6E7C46D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1DF2-257B-4D0C-A5CE-4963005629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5440-A1A1-448C-B315-3D05DBE51E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57C2-81CD-484E-9CF7-14F4574E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F3B-A6F7-489A-8B04-3DCE0288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425-E9F7-4C2D-ADCA-A3D8CC7A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0FD-FF0D-4F91-BEF7-A55AB23D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04E-DB4E-49BF-BE56-57479BFA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990-8607-44A3-9636-682B80F5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1DF-E000-4A06-99FA-FD45AB5A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9B4-4265-477D-B160-AF8CCE15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2F1-BA5A-4806-832C-D5C0C54F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F8B-7015-4183-85FA-93BD89EE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BD9-6EED-4B74-BA1A-9E785CBF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FFE-3A81-4A7B-935C-1D0CD244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75D2-0BD8-424A-9198-45BA14EEC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p0.blogger.com/_UIXOn06Pz70/SGwH-5l38NI/AAAAAAAADus/-1Z4xbxX7-M/s800/Strawberry+Cheesecake+Ice+Cream+50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071720" y="1214280"/>
            <a:ext cx="338436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hu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thir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is afr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in a hur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716360" y="765000"/>
            <a:ext cx="338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o ha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mos 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en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fr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mi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enes pr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785880" y="428760"/>
            <a:ext cx="8072280" cy="520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books to revise the verb “tener” to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042920" y="4869000"/>
            <a:ext cx="7632720" cy="1068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cias, para beber quiero una botella de vino blanco, por favor- con dos v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protero"/>
          <p:cNvPicPr/>
          <p:nvPr/>
        </p:nvPicPr>
        <p:blipFill>
          <a:blip r:embed="rId1"/>
          <a:stretch/>
        </p:blipFill>
        <p:spPr>
          <a:xfrm>
            <a:off x="3097080" y="476280"/>
            <a:ext cx="3079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42920" y="4869000"/>
            <a:ext cx="7632720" cy="1068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a entrada, quiero el coctél de gambas, por fa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prawncock2web"/>
          <p:cNvPicPr/>
          <p:nvPr/>
        </p:nvPicPr>
        <p:blipFill>
          <a:blip r:embed="rId1"/>
          <a:stretch/>
        </p:blipFill>
        <p:spPr>
          <a:xfrm>
            <a:off x="2825640" y="692280"/>
            <a:ext cx="3506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4360" y="4869000"/>
            <a:ext cx="7991280" cy="1068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a plato principal quiero el bistec en ajo, por fa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steak"/>
          <p:cNvPicPr/>
          <p:nvPr/>
        </p:nvPicPr>
        <p:blipFill>
          <a:blip r:embed="rId1"/>
          <a:stretch/>
        </p:blipFill>
        <p:spPr>
          <a:xfrm>
            <a:off x="3059280" y="692280"/>
            <a:ext cx="36385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84360" y="4869000"/>
            <a:ext cx="7991280" cy="1068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para postre, quiero el helado de fresa, por f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trawberry%2BCheesecake%2BIce%2BCream%2B5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068480"/>
            <a:ext cx="43927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84360" y="4869000"/>
            <a:ext cx="79912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eno, ¿algo 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waiter_taking_order_hg_clr"/>
          <p:cNvPicPr/>
          <p:nvPr/>
        </p:nvPicPr>
        <p:blipFill>
          <a:blip r:embed="rId1"/>
          <a:stretch/>
        </p:blipFill>
        <p:spPr>
          <a:xfrm>
            <a:off x="3564000" y="1125360"/>
            <a:ext cx="20574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684360" y="4869000"/>
            <a:ext cx="79912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, nada más, gra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dave_shaking_head_no_hg_clr[1]"/>
          <p:cNvPicPr/>
          <p:nvPr/>
        </p:nvPicPr>
        <p:blipFill>
          <a:blip r:embed="rId1"/>
          <a:stretch/>
        </p:blipFill>
        <p:spPr>
          <a:xfrm>
            <a:off x="3132000" y="105264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684360" y="4869000"/>
            <a:ext cx="79912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 cuenta, por f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restaurant-bill-istock-de"/>
          <p:cNvPicPr/>
          <p:nvPr/>
        </p:nvPicPr>
        <p:blipFill>
          <a:blip r:embed="rId1"/>
          <a:stretch/>
        </p:blipFill>
        <p:spPr>
          <a:xfrm>
            <a:off x="2916360" y="765000"/>
            <a:ext cx="36367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4360" y="4653000"/>
            <a:ext cx="79912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iero pagar con tarjeta de créd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4360" y="5445000"/>
            <a:ext cx="79912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iero pagar con efe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redit-card-visa"/>
          <p:cNvPicPr/>
          <p:nvPr/>
        </p:nvPicPr>
        <p:blipFill>
          <a:blip r:embed="rId1"/>
          <a:stretch/>
        </p:blipFill>
        <p:spPr>
          <a:xfrm>
            <a:off x="755640" y="155736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ash-wad"/>
          <p:cNvPicPr/>
          <p:nvPr/>
        </p:nvPicPr>
        <p:blipFill>
          <a:blip r:embed="rId2"/>
          <a:stretch/>
        </p:blipFill>
        <p:spPr>
          <a:xfrm>
            <a:off x="4716360" y="112536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50920" y="1557360"/>
            <a:ext cx="8497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using tene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earn phrases for in a restaura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learn how to complai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begin a projec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042920" y="4869000"/>
            <a:ext cx="6264360" cy="1068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siera (reservar) una mesa, por fa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Restaurant%20Table"/>
          <p:cNvPicPr/>
          <p:nvPr/>
        </p:nvPicPr>
        <p:blipFill>
          <a:blip r:embed="rId1"/>
          <a:stretch/>
        </p:blipFill>
        <p:spPr>
          <a:xfrm>
            <a:off x="2124000" y="476280"/>
            <a:ext cx="48769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42920" y="4869000"/>
            <a:ext cx="626436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 el nombre de Tor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403280" y="1844640"/>
            <a:ext cx="676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"/>
              </a:rPr>
              <a:t>TORR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42920" y="4869000"/>
            <a:ext cx="626436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Para cuántas person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684360" y="1844640"/>
            <a:ext cx="763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  <a:ea typeface="Arial"/>
              </a:rPr>
              <a:t>¿1, 2, </a:t>
            </a:r>
            <a:r>
              <a:rPr b="0" lang="en-GB" sz="10000" spc="-1" strike="noStrike">
                <a:solidFill>
                  <a:srgbClr val="000000"/>
                </a:solidFill>
                <a:latin typeface="Arial"/>
              </a:rPr>
              <a:t>4, 10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42920" y="4869000"/>
            <a:ext cx="626436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a dos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84360" y="1844640"/>
            <a:ext cx="763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042920" y="4869000"/>
            <a:ext cx="763272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En la terraza o cerca de la vent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572000" y="609480"/>
            <a:ext cx="2773440" cy="264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bd04877_"/>
          <p:cNvPicPr/>
          <p:nvPr/>
        </p:nvPicPr>
        <p:blipFill>
          <a:blip r:embed="rId2"/>
          <a:stretch/>
        </p:blipFill>
        <p:spPr>
          <a:xfrm>
            <a:off x="826920" y="1989000"/>
            <a:ext cx="28195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42920" y="4869000"/>
            <a:ext cx="763272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rca de la ventana, por fa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37098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042920" y="4869000"/>
            <a:ext cx="763272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eno…la carta, señ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picc04"/>
          <p:cNvPicPr/>
          <p:nvPr/>
        </p:nvPicPr>
        <p:blipFill>
          <a:blip r:embed="rId1"/>
          <a:stretch/>
        </p:blipFill>
        <p:spPr>
          <a:xfrm>
            <a:off x="2627280" y="476280"/>
            <a:ext cx="40482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9:08:59Z</dcterms:created>
  <dc:creator>Owner1</dc:creator>
  <dc:description/>
  <dc:language>en-US</dc:language>
  <cp:lastModifiedBy>Chris</cp:lastModifiedBy>
  <dcterms:modified xsi:type="dcterms:W3CDTF">2009-03-11T14:25:05Z</dcterms:modified>
  <cp:revision>6</cp:revision>
  <dc:subject/>
  <dc:title>Slide 1</dc:title>
</cp:coreProperties>
</file>